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8FB80-565E-45C8-A957-7966453A4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C4697-F4E8-4CFE-BE86-B2BCAB034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C8DF-79C9-4BA1-A8FB-167A4292D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C094-F2DA-4746-95A1-C0DA758BB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0362-8AE1-4949-98EB-5B3B0623D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E666-A71C-449C-8431-1621AD9DA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FAF8-F85A-4E67-9A09-5D11CB36F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EFA2-16E6-43A5-931A-8C47EBADE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9135-E2AD-44B1-AE69-AB4EF8804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327F-F6D2-44FA-AA93-F85373655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E12A-F8C2-4190-B593-8013A8460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4162-941A-4C37-B88E-C0C32658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86CD-8A2F-4239-AD29-C7346EAA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8E99-5A06-4425-B765-83BD25D8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FA708-C423-4DA2-B520-5A97D610D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oureen Sh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Noureen S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Noureen Sher (10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Noureen Sher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Noureen Sher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9528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7150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Nora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00200" cy="10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Mi nombre es Noureen Sher. Yo soy de los Estados Unidos. Yo amo la música y el canto. Tengo trece años. Yo amo One Direction, Ed Sheeran, Little Mix, and Taylor Swift. </a:t>
            </a:r>
            <a:r>
              <a:rPr b="0" lang="en-US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Yo soy extrovertida y graciosa. Yo soy inteligente y joven.Yo no muerden, add me! </a:t>
            </a:r>
            <a:r>
              <a:rPr b="0" lang="en-US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685800" y="571500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en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4"/>
          <p:cNvSpPr/>
          <p:nvPr/>
        </p:nvSpPr>
        <p:spPr>
          <a:xfrm>
            <a:off x="152280" y="64008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ia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6"/>
          <p:cNvSpPr/>
          <p:nvPr/>
        </p:nvSpPr>
        <p:spPr>
          <a:xfrm flipH="1">
            <a:off x="1371600" y="5715000"/>
            <a:ext cx="18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d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8" descr="Photo on 2011-10-21 at 13.53 #2.jpg"/>
          <p:cNvPicPr/>
          <p:nvPr/>
        </p:nvPicPr>
        <p:blipFill>
          <a:blip r:embed="rId1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0" descr="Photo on 2011-10-21 at 13.39 #2.jpg"/>
          <p:cNvPicPr/>
          <p:nvPr/>
        </p:nvPicPr>
        <p:blipFill>
          <a:blip r:embed="rId2"/>
          <a:stretch/>
        </p:blipFill>
        <p:spPr>
          <a:xfrm>
            <a:off x="2114640" y="3273480"/>
            <a:ext cx="542880" cy="785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4" descr="Photo on 2011-10-21 at 13.53 #2.jpg"/>
          <p:cNvPicPr/>
          <p:nvPr/>
        </p:nvPicPr>
        <p:blipFill>
          <a:blip r:embed="rId3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7"/>
          <p:cNvSpPr/>
          <p:nvPr/>
        </p:nvSpPr>
        <p:spPr>
          <a:xfrm>
            <a:off x="2743200" y="3886200"/>
            <a:ext cx="3733920" cy="6094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JAJAJA. :D Tú eres linda, Noureen!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  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Kiara Zapan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uenas tardes, Noureen!¿Quieres ir de compras en 1D World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   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Sadia Uddin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8" descr="Photo on 2011-10-21 at 13.46.jpg"/>
          <p:cNvPicPr/>
          <p:nvPr/>
        </p:nvPicPr>
        <p:blipFill>
          <a:blip r:embed="rId4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343434"/>
                </a:solidFill>
                <a:latin typeface="Arial"/>
              </a:rPr>
              <a:t>No puedo esperar para mi cumpleaños!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               Noure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Diciembre 3 de 2012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Noureen Sh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9" descr="Photo on 2011-10-21 at 13.53 #2.jpg"/>
          <p:cNvPicPr/>
          <p:nvPr/>
        </p:nvPicPr>
        <p:blipFill>
          <a:blip r:embed="rId5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2" descr="Photo on 2011-10-21 at 13.46.jpg"/>
          <p:cNvPicPr/>
          <p:nvPr/>
        </p:nvPicPr>
        <p:blipFill>
          <a:blip r:embed="rId6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óla! Cómo están mis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62"/>
          <p:cNvSpPr/>
          <p:nvPr/>
        </p:nvSpPr>
        <p:spPr>
          <a:xfrm>
            <a:off x="685800" y="6400800"/>
            <a:ext cx="99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hfooz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7"/>
          <a:stretch/>
        </p:blipFill>
        <p:spPr>
          <a:xfrm>
            <a:off x="76320" y="5943600"/>
            <a:ext cx="571320" cy="4287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8"/>
          <a:stretch/>
        </p:blipFill>
        <p:spPr>
          <a:xfrm>
            <a:off x="609480" y="5334120"/>
            <a:ext cx="533520" cy="398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9"/>
          <a:stretch/>
        </p:blipFill>
        <p:spPr>
          <a:xfrm>
            <a:off x="685800" y="5943600"/>
            <a:ext cx="685800" cy="458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10"/>
          <a:stretch/>
        </p:blipFill>
        <p:spPr>
          <a:xfrm>
            <a:off x="1219320" y="5257800"/>
            <a:ext cx="685800" cy="458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11"/>
          <a:stretch/>
        </p:blipFill>
        <p:spPr>
          <a:xfrm>
            <a:off x="76320" y="990720"/>
            <a:ext cx="18237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13:55:02Z</dcterms:created>
  <dc:creator>FriscoISD</dc:creator>
  <dc:description/>
  <dc:language>en-US</dc:language>
  <cp:lastModifiedBy>User</cp:lastModifiedBy>
  <dcterms:modified xsi:type="dcterms:W3CDTF">2012-12-06T14:02:15Z</dcterms:modified>
  <cp:revision>104</cp:revision>
  <dc:subject/>
  <dc:title>Profile</dc:title>
</cp:coreProperties>
</file>